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A987D-F789-4687-9559-FA9F496BA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FF3DD-FA36-4BBC-810F-025A25323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4666D-2E3F-4619-90AC-3D6ED9B0F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57447-288F-4AB6-B6FA-06C416A2A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alumn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2C052-AA48-4105-93C5-3E418BD07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DB2B5-86B7-4D0D-9F8E-FB7433C09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1CDCA-143B-484F-8C2B-C180932E7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7AEEB-B3FB-46AA-A0C2-825E1C727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439F9-A1BA-4FDB-8B99-B093F93CF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2CE95-868C-4123-867F-CA78C9E0E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B2988-F4DB-42B7-816D-D39651B20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B034C-59FA-4052-B639-37192F4DE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4051F-17F3-4AFA-942E-3601A51E9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6A46F-C19D-4DEA-93F2-872E2A2A8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95956-0D6C-4237-937C-91568EB5F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15E90-0784-4075-BF7C-FFD82AF85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8F0B-7EB9-46EB-B9FC-01507842D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95E6E-442E-4EA3-8AE0-EB3E58B35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FA259B-D856-4D90-A815-9DDE16D60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FCCC4-3517-4E37-AF85-CACB440A5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C5E08-B37A-4125-84A1-721FB5255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92A-1A04-4CFC-94C5-1FC4A4D7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75D-3898-4198-B5A8-D8140378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070-04B9-46C4-BA27-0C33A09B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2EE-4318-4D18-BD59-82529710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762-BE88-428D-B257-F1B2F7B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B99-40AC-4DC8-99E4-3E12A195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D5A-7CAD-480B-B241-9D6EE675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3DB-6387-46F1-ABEC-6724A88B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DBE-6C7C-46BB-9A28-5EBDA5D6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FF5-17D0-4004-8650-E00EC3B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AE1-5524-4682-91BD-63E73DE9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3C7-1217-45C9-A01B-34CDABB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1AFCE-34C3-4857-A5C4-E6592C7B03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FCEE5-F299-497D-A3B8-A208E8D55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7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36B3D65-3BA4-4D98-BA50-EE0786AFA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2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47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3CE6820-1621-4AF3-A6D3-9C827DC3A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E20AABD-9C81-411C-9379-E05E34A06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C352C7F-D593-4622-B71D-8DFB5AE0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F1AB931-5A0A-4493-A15F-0A6EE6879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0AEAEFA-9E4D-4CBA-ABAE-22FF57A7D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EDB9632-01E4-4437-A469-B198E210B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87F7DBB-80C1-4BA9-BC9D-1435E20A4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A211EDC-2F57-41C4-B800-2744E1F6A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EC3B8A7-8F81-49D7-A367-6ECF1AD47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rimera parte.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egunda parte.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ercera parte.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uarta parte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inta parte.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9D161EE-E399-428B-A7D1-BDD0DF650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B97E346-810A-4D8E-8C3F-DA6B0EEB9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F98FE42-5E10-407D-808E-32394DA41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l término de esta sesión, los alumnos sabrá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00E942C-2269-4F23-9618-7A2775DAE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0D900EC-29D1-4640-899A-2F0AF30A8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3BAD8FF-6E29-49A5-A942-606651E0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E30BE60-D5F3-40D9-A757-F177EA4C2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214EE98-2E2B-42C3-A45F-055D1BB49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D11851C-EA9D-4C2B-92EA-C959DE38B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3E633D7-0474-4CBF-89A0-1DA636FDA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3D049C2-9ADE-4C31-822B-FB8468C5B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8AF1D5D-BEA0-456A-B01F-746543B04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4T21:32:56Z</dcterms:modified>
  <cp:revision>181</cp:revision>
  <dc:subject/>
  <dc:title>Introductory Cybercrime Training for Judges and Prosecutors</dc:title>
</cp:coreProperties>
</file>